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703A-D65B-4B62-B1DE-299847343C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ge </a:t>
            </a:r>
            <a:fld id="{753931E0-93ED-4F55-B85A-559BAC4D9F9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D5DF-AFF2-491E-A65B-4D54E155B29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E23A-943C-4780-915A-401F6D5FEA6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E835-9B17-44E9-9E26-8CC269A2654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CDF6-E727-4904-8099-771C28EE3B0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3354-0571-4BBE-A6A3-6B50D24E15A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28F7-7C37-437D-AD7A-E3067C3AD99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3F17-A0F1-461E-A7F8-15693D43522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21F7-67A7-4C08-B11E-88D00A9513B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C8AC-DCA6-407C-85B5-E96B35F38EA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0345-9665-49BF-AB6D-5FDC75CB032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144E-3C02-42A2-8210-2044C61BE21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E1CF-5388-43DA-99D7-43B1812D807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BA66-EF0D-41E9-9F6E-F3F5A866D47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2A3E-EC59-4B87-A1C2-F0849210851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2836-4ABA-4C60-9232-4C45AB982A7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8F59-3842-46E6-9A92-A50988D8F18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F8D0-7F6B-45A0-85D1-482D89FB72B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47AA-3EBC-4438-90DF-B9E4E2FD8CB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848E-64A2-4E56-8B2B-6E18F20D826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306-FC6E-4B0D-807E-AFDD4F358EE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0E61-508F-4471-8C92-44E0BB2887E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3EC1-EFA6-4AFE-864E-70F06E1A55B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7266-9CA0-4B5E-8C59-1C7C306245B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0746-9E76-4AFC-AADB-7EA81B0A793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77BB-E49E-42BD-9B05-A17478EA002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C3FA-3261-4F3D-9356-2E79A9AC199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6F66-C888-4875-9064-4ABC270DF7C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22C3-9C9F-453B-AB96-2C1F28ACD02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D162-893B-4198-AA8E-931BAD3CC40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20FF-033A-46B4-B927-B38246FF36D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3C23-F169-4B54-A528-F91A1B34337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E614-0E3C-4CEE-9FD9-C0970D12346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349E-45D7-4F03-8CBD-15ADE6900AF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C052-9695-4F68-BA47-4F348DF11AB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0FBE-F9A7-4CCB-8655-698CE3ADC6C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FCC5-7AB1-431C-8C80-4A98791051C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54BC-0668-4238-9D1E-7D2EA57E59A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95AD-2DF2-4C9A-B1F8-18D2D898678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4644-2242-4479-A6FB-C991C02B674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EF9A-479E-49A7-86A1-28C5ABF762B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9338-909D-4641-B00E-098A19EA0D7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CA94-4321-42F5-97BC-20CF107C952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36EA-C4AF-4C98-AC5C-9AFEDA8933A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B3C1-E174-4BFF-9B15-A7233DAEA9B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1F95-90BD-4946-A529-4B05373F6D8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1398-8B61-41F5-9424-7A725E13F59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AF6A-2A5E-452D-976E-83A53E0907B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15B0-5A76-4E4C-A8BD-50551185F54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C675-BDD0-494A-8C5D-6C55E921F53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3B1B-1CB1-4488-9835-3C09F5F6B46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C2CC-6287-4173-8D86-A0E60D1FAF8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8052-5037-4A76-A9DB-C33B88AFAC7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B675-BE44-4178-B1B1-F163F2DC061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C1E5-7C54-4157-AA8E-6D5CF2649E7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EC15-3CB8-41A2-9FB4-A8D8CD4467F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D960-4DB6-47EA-BD9D-A7AB44212B1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708-F11D-4A56-9ACA-8AAF0556D39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B519-C042-406A-BF14-94B021C57A4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9771-B3CE-4791-A0D3-52BF1D57713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86C6-E02F-4938-BB90-66B12436B5D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AAB7-2F17-4A12-9296-DFCD5B4682F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6C5F-0CE5-4440-B6F1-D2FBA4077DC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F428-0EE3-4C79-9A1C-18E8BC95A06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DAD7-BF40-40D8-932F-760900ED839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DE7F-2B1B-469D-B637-4C86A22151F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A16-309D-4FF4-98F7-55138DD1311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B428-8BFE-4A78-8560-7DA1CF01F6A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C2C-CA38-4A6D-9043-695E2DBB8A2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DA50-1EBB-4EDE-9BC9-1BF1B341A25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3C54B-5D92-4410-B389-F0BA8C7CF4B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250D-EB94-443D-AF85-3BB48CDCC90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AC87-B2DD-49C8-ADD9-D1E246EC2EC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0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1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2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3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C321-4184-4887-8A79-C0CC280C102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7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8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9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0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8F03-105D-424D-9A96-388881C6DF9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4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5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6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7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FE0F-6EE7-4D45-B5C4-C1E8A82CC03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1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2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3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4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B575-0698-4D34-AE77-4BD9B9D9565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7701-EC18-4E47-90A3-181F5D17B2F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8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9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8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0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1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81AF-BC04-44BE-A37B-DC5B1F7287B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5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6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7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8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C05A-30B7-4677-8B07-B02E4E1771E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3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4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5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CAE2-4C5D-4FBD-8BFB-91D4C6CC907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9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0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2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1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2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D33-F628-46EF-B617-4A83EF5EBD6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6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7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8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9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1B9A-AD38-4EB6-93A8-C92B992C423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3" name="Rectangle 1026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4" name="Rectangle 102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5" name="Rectangle 1028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6" name="Rectangle 1029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CDC8-9D95-468D-B31B-EF135C46054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2D77-9069-4251-AD2E-B82800AD7ED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6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9AE-2084-4514-80A2-6A16650E072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8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A2C6-E8C1-4E1E-954F-9789AFAB4F0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69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F5C4-4071-45F8-A2A3-DFE6A60D4C4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5AE-69EB-46D0-B6F8-364E832791E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72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6DE9-DE78-4666-B726-C355E20730D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73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2F0-2C28-4B8F-B62B-379C954D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AB4-FDE1-4131-9554-6C294AD0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333-1C2B-42F7-A39B-623C21BD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403-9CE0-4BE7-8A27-438D3A98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0A65-EBA7-480A-9E56-D9E445BE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0AAA-91BF-4521-97E6-37A9FAFC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95A6-DA5E-442A-AD97-7E7E3442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62A9-EB6D-4FC2-8301-CA8D4D5A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085F2-8079-480B-8DA7-72C75ECE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99CE-F0B7-429D-BEA7-B1E1EC3C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67D7-2E59-4DCB-BF3D-05E2AB8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A3C-9881-4276-89E6-1C830365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3479-D983-4C54-987B-0ECB46B2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3CD6-357F-4956-BC3E-3D6F3251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6259-5CB8-41AD-97E4-5E6EC4C6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C88B-BDC3-43EC-ACEE-EA539472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6A12-360F-4D22-90A1-2CACE2EB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97C4-FC10-47E8-8F36-34844C39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F4AC-6BBD-47BE-8FAA-38E90FED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EB6C-2B81-43C4-9462-F00E18C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ABB4-73A4-4EE7-ABE8-9B4B959B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412-0C41-4C94-9C22-883F51B1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3D36-6093-448E-AF97-3B3430EE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DB5-E386-4FD7-AA2B-1E2E6012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2FCB-8723-49B7-BAE7-1BCA70CA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AA4B-278C-4AD3-85B1-B7B7D2E089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040" y="228240"/>
            <a:ext cx="6311880" cy="227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0: 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sh Flows and Other Topics in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Budge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2438280" y="2130480"/>
            <a:ext cx="6477120" cy="4727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95360" y="14479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Accept or Reject the Project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447920" y="304920"/>
            <a:ext cx="59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Capital Budgeting Steps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1760" y="1098720"/>
            <a:ext cx="792468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“time 0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Purchase price of the asse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(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shipping and installation cos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Depreciable asse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(Investment in working capital)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After-tax proceeds from sale of old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t Initial Out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1760" y="1098720"/>
            <a:ext cx="792468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“time 0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2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(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shipping and installation cost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Depreciable asse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(Investment in working capital)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After-tax proceeds from sale of old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t Initial Out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098720"/>
            <a:ext cx="830556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“time 0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2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 (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20,00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Depreciable asset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(Investment in working capital)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After-tax proceeds from sale of old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t Initial Out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098720"/>
            <a:ext cx="800100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“time 0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2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 (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20,00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4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(Investment in working capital)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After-tax proceeds from sale of old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t Initial Out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1760" y="1098720"/>
            <a:ext cx="792468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“time 0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2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 (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20,00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4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(    4,000)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After-tax proceeds from sale of old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t Initial Out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1098720"/>
            <a:ext cx="807696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“time 0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2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 (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20,00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4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(    4,000)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t Initial Out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098720"/>
            <a:ext cx="800100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“time 0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27,000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Purchase price of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 (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20,00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shipping and instal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47,000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depreciable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(    4,000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net working capi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+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proceeds from sale of old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$151,000)   net initial out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1760" y="1098720"/>
            <a:ext cx="800100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)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“time 0?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127,000)    Purchase price of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(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2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    shipping and install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147,000)    depreciable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(    4,000)    net working capi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           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proceeds from sale of old as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$151,000)   net initial outl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699000" cy="3330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1760" y="1098720"/>
            <a:ext cx="746748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nnual Cash Flow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ncremental cash flows occur over the life of the projec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49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pital Budgeting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  the process of planning for purchases of </a:t>
            </a:r>
            <a:r>
              <a:rPr b="1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long-term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assets.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xamp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ur firm must decide whether to purchase a new plastic molding machine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127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  How do we decid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ll the machine b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fitabl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ll our firm earn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igh rate of retur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on the investm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 relevant project information follow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946080"/>
            <a:ext cx="777240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reven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Incremental cos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on project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before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Tax on incremental 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after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59772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Each Year, Calculate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7720" y="946080"/>
            <a:ext cx="769644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reven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Incremental cos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on project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before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Tax on incremental 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after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7720" y="946080"/>
            <a:ext cx="769644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Incremental cos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on project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before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Tax on incremental 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after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946080"/>
            <a:ext cx="746784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29,75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on project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before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Tax on incremental 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after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38080" y="946080"/>
            <a:ext cx="784872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29,75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29,400)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before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Tax on incremental 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after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946080"/>
            <a:ext cx="746784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29,75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29,400)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5,8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Tax on incremental 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after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8080" y="946080"/>
            <a:ext cx="731520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29,75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29,400)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5,8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8,789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mental earnings after 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946080"/>
            <a:ext cx="632484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29,75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29,400)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5,8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8,789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7,06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946080"/>
            <a:ext cx="601992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29,75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29,400)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5,85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8,789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7,06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29,4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837720" y="946080"/>
            <a:ext cx="7239240" cy="591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even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29,750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s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29,400)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tio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5,85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8,789)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ax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7,06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A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29,40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6,46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=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ual Cash Flow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495320" y="336240"/>
            <a:ext cx="36450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 cost of the new machine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27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stallation will cos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2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4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n net working capital will be needed at the time of install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 project will increase revenues b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85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er year, but operating costs will increase b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5%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of the revenue incr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implified straight line depreciation is us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lass life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years, and the firm is planning to keep the project for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yea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alvage value at the end of year 5 will b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5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4%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cost of capital;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4%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marginal tax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8001000" cy="454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the end of the project’s lif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alvag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/- Tax effects of capital gain/lo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capture of net working capi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erminal Cash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70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the end of the project’s lif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Salvag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/- Tax effects of capital gain/los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+  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capture of net working capi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erminal Cash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669276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ax Effects of Sale of Asset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383840"/>
            <a:ext cx="7467840" cy="547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alvage value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ook value =  depreciable asset - total amount depreciat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ook value = $147,000 - $147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   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= $0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apital gain = SV - B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= 50,000 - 0 =  $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ax payment = 50,000 x .34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$17,0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84872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the end of the project’s lif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Salvag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7,000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Tax on capital g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capture of NW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erminal Cash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84872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the end of the project’s lif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Salvag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7,000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Tax on capital g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4,000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capture of NW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erminal Cash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167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Evaluate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)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What is the cash flow at the end of the project’s lif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Salvage val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7,000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Tax on capital ga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4,000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Recapture of NW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7,000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Terminal Cash Flo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85840" y="228600"/>
            <a:ext cx="426708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ject NPV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15200" cy="44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0)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151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1 - 4)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6,46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5) = 46,461 + 37,000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3,46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iscount rate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PV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7,72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e would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ccep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projec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85840" y="387000"/>
            <a:ext cx="431172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95280" y="1523880"/>
            <a:ext cx="7067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uppose that you have evaluated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 capital investment project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for your compan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uppose that the VP of Finance has given you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mited capital budge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ow do you decide which projects to selec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360" y="1409400"/>
            <a:ext cx="80200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You could rank the projects by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211680" y="1998720"/>
            <a:ext cx="8580960" cy="4847040"/>
            <a:chOff x="211680" y="1998720"/>
            <a:chExt cx="8580960" cy="4847040"/>
          </a:xfrm>
        </p:grpSpPr>
        <p:grpSp>
          <p:nvGrpSpPr>
            <p:cNvPr id="276" name="Group 4"/>
            <p:cNvGrpSpPr/>
            <p:nvPr/>
          </p:nvGrpSpPr>
          <p:grpSpPr>
            <a:xfrm>
              <a:off x="1428840" y="2438280"/>
              <a:ext cx="7048440" cy="3638520"/>
              <a:chOff x="1428840" y="2438280"/>
              <a:chExt cx="7048440" cy="3638520"/>
            </a:xfrm>
          </p:grpSpPr>
          <p:sp>
            <p:nvSpPr>
              <p:cNvPr id="277" name="Line 5"/>
              <p:cNvSpPr/>
              <p:nvPr/>
            </p:nvSpPr>
            <p:spPr>
              <a:xfrm>
                <a:off x="1447920" y="2438280"/>
                <a:ext cx="0" cy="36385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8" name="Line 6"/>
              <p:cNvSpPr/>
              <p:nvPr/>
            </p:nvSpPr>
            <p:spPr>
              <a:xfrm>
                <a:off x="1428840" y="6076800"/>
                <a:ext cx="70484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9" name="Rectangle 7"/>
            <p:cNvSpPr/>
            <p:nvPr/>
          </p:nvSpPr>
          <p:spPr>
            <a:xfrm>
              <a:off x="211680" y="1998720"/>
              <a:ext cx="102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IRR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1238400" y="4896000"/>
              <a:ext cx="190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>
              <a:off x="1257480" y="3448080"/>
              <a:ext cx="171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1238400" y="415296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Line 11"/>
            <p:cNvSpPr/>
            <p:nvPr/>
          </p:nvSpPr>
          <p:spPr>
            <a:xfrm>
              <a:off x="1257480" y="28386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Line 12"/>
            <p:cNvSpPr/>
            <p:nvPr/>
          </p:nvSpPr>
          <p:spPr>
            <a:xfrm>
              <a:off x="1238400" y="55818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Rectangle 13"/>
            <p:cNvSpPr/>
            <p:nvPr/>
          </p:nvSpPr>
          <p:spPr>
            <a:xfrm>
              <a:off x="402120" y="5246640"/>
              <a:ext cx="796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Rectangle 14"/>
            <p:cNvSpPr/>
            <p:nvPr/>
          </p:nvSpPr>
          <p:spPr>
            <a:xfrm>
              <a:off x="325440" y="45417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Rectangle 15"/>
            <p:cNvSpPr/>
            <p:nvPr/>
          </p:nvSpPr>
          <p:spPr>
            <a:xfrm>
              <a:off x="344520" y="38559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Rectangle 16"/>
            <p:cNvSpPr/>
            <p:nvPr/>
          </p:nvSpPr>
          <p:spPr>
            <a:xfrm>
              <a:off x="325440" y="31701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Rectangle 17"/>
            <p:cNvSpPr/>
            <p:nvPr/>
          </p:nvSpPr>
          <p:spPr>
            <a:xfrm>
              <a:off x="325440" y="25606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Rectangle 18"/>
            <p:cNvSpPr/>
            <p:nvPr/>
          </p:nvSpPr>
          <p:spPr>
            <a:xfrm>
              <a:off x="8403480" y="6265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1" name="Rectangle 19"/>
          <p:cNvSpPr/>
          <p:nvPr/>
        </p:nvSpPr>
        <p:spPr>
          <a:xfrm>
            <a:off x="1511280" y="2635200"/>
            <a:ext cx="768240" cy="33973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1640880" y="5265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5360" y="1409400"/>
            <a:ext cx="80200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You could rank the projects by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593064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Budgeting Step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0100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valuate Cash Fl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Look at all incremental cash flows occurring as a result of the projec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Differential Cash Flow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ver the life of the project (also referred to as annual cash flows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360" y="1409400"/>
            <a:ext cx="80200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You could rank the projects by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4"/>
          <p:cNvGrpSpPr/>
          <p:nvPr/>
        </p:nvGrpSpPr>
        <p:grpSpPr>
          <a:xfrm>
            <a:off x="211680" y="1998720"/>
            <a:ext cx="8580960" cy="4847040"/>
            <a:chOff x="211680" y="1998720"/>
            <a:chExt cx="8580960" cy="4847040"/>
          </a:xfrm>
        </p:grpSpPr>
        <p:grpSp>
          <p:nvGrpSpPr>
            <p:cNvPr id="297" name="Group 5"/>
            <p:cNvGrpSpPr/>
            <p:nvPr/>
          </p:nvGrpSpPr>
          <p:grpSpPr>
            <a:xfrm>
              <a:off x="1428840" y="2438280"/>
              <a:ext cx="7048440" cy="3638520"/>
              <a:chOff x="1428840" y="2438280"/>
              <a:chExt cx="7048440" cy="3638520"/>
            </a:xfrm>
          </p:grpSpPr>
          <p:sp>
            <p:nvSpPr>
              <p:cNvPr id="298" name="Line 6"/>
              <p:cNvSpPr/>
              <p:nvPr/>
            </p:nvSpPr>
            <p:spPr>
              <a:xfrm>
                <a:off x="1447920" y="2438280"/>
                <a:ext cx="0" cy="36385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99" name="Line 7"/>
              <p:cNvSpPr/>
              <p:nvPr/>
            </p:nvSpPr>
            <p:spPr>
              <a:xfrm>
                <a:off x="1428840" y="6076800"/>
                <a:ext cx="70484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00" name="Rectangle 8"/>
            <p:cNvSpPr/>
            <p:nvPr/>
          </p:nvSpPr>
          <p:spPr>
            <a:xfrm>
              <a:off x="211680" y="1998720"/>
              <a:ext cx="102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IRR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Line 9"/>
            <p:cNvSpPr/>
            <p:nvPr/>
          </p:nvSpPr>
          <p:spPr>
            <a:xfrm>
              <a:off x="1238400" y="4896000"/>
              <a:ext cx="190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Line 10"/>
            <p:cNvSpPr/>
            <p:nvPr/>
          </p:nvSpPr>
          <p:spPr>
            <a:xfrm>
              <a:off x="1257480" y="3448080"/>
              <a:ext cx="171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1"/>
            <p:cNvSpPr/>
            <p:nvPr/>
          </p:nvSpPr>
          <p:spPr>
            <a:xfrm>
              <a:off x="1238400" y="415296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Line 12"/>
            <p:cNvSpPr/>
            <p:nvPr/>
          </p:nvSpPr>
          <p:spPr>
            <a:xfrm>
              <a:off x="1257480" y="28386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Line 13"/>
            <p:cNvSpPr/>
            <p:nvPr/>
          </p:nvSpPr>
          <p:spPr>
            <a:xfrm>
              <a:off x="1238400" y="55818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402120" y="5246640"/>
              <a:ext cx="796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325440" y="45417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344520" y="38559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Rectangle 17"/>
            <p:cNvSpPr/>
            <p:nvPr/>
          </p:nvSpPr>
          <p:spPr>
            <a:xfrm>
              <a:off x="325440" y="31701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Rectangle 18"/>
            <p:cNvSpPr/>
            <p:nvPr/>
          </p:nvSpPr>
          <p:spPr>
            <a:xfrm>
              <a:off x="325440" y="25606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Rectangle 19"/>
            <p:cNvSpPr/>
            <p:nvPr/>
          </p:nvSpPr>
          <p:spPr>
            <a:xfrm>
              <a:off x="8403480" y="6265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2" name="Rectangle 20"/>
          <p:cNvSpPr/>
          <p:nvPr/>
        </p:nvSpPr>
        <p:spPr>
          <a:xfrm>
            <a:off x="1511280" y="2635200"/>
            <a:ext cx="768240" cy="33973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1640880" y="5265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2349360" y="3092400"/>
            <a:ext cx="844560" cy="2940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251712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360" y="1409400"/>
            <a:ext cx="80200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You could rank the projects by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8" name="Group 4"/>
          <p:cNvGrpSpPr/>
          <p:nvPr/>
        </p:nvGrpSpPr>
        <p:grpSpPr>
          <a:xfrm>
            <a:off x="211680" y="1998720"/>
            <a:ext cx="8580960" cy="4847040"/>
            <a:chOff x="211680" y="1998720"/>
            <a:chExt cx="8580960" cy="4847040"/>
          </a:xfrm>
        </p:grpSpPr>
        <p:grpSp>
          <p:nvGrpSpPr>
            <p:cNvPr id="319" name="Group 5"/>
            <p:cNvGrpSpPr/>
            <p:nvPr/>
          </p:nvGrpSpPr>
          <p:grpSpPr>
            <a:xfrm>
              <a:off x="1428840" y="2438280"/>
              <a:ext cx="7048440" cy="3638520"/>
              <a:chOff x="1428840" y="2438280"/>
              <a:chExt cx="7048440" cy="3638520"/>
            </a:xfrm>
          </p:grpSpPr>
          <p:sp>
            <p:nvSpPr>
              <p:cNvPr id="320" name="Line 6"/>
              <p:cNvSpPr/>
              <p:nvPr/>
            </p:nvSpPr>
            <p:spPr>
              <a:xfrm>
                <a:off x="1447920" y="2438280"/>
                <a:ext cx="0" cy="36385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" name="Line 7"/>
              <p:cNvSpPr/>
              <p:nvPr/>
            </p:nvSpPr>
            <p:spPr>
              <a:xfrm>
                <a:off x="1428840" y="6076800"/>
                <a:ext cx="70484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22" name="Rectangle 8"/>
            <p:cNvSpPr/>
            <p:nvPr/>
          </p:nvSpPr>
          <p:spPr>
            <a:xfrm>
              <a:off x="211680" y="1998720"/>
              <a:ext cx="102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IRR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Line 9"/>
            <p:cNvSpPr/>
            <p:nvPr/>
          </p:nvSpPr>
          <p:spPr>
            <a:xfrm>
              <a:off x="1238400" y="4896000"/>
              <a:ext cx="190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Line 10"/>
            <p:cNvSpPr/>
            <p:nvPr/>
          </p:nvSpPr>
          <p:spPr>
            <a:xfrm>
              <a:off x="1257480" y="3448080"/>
              <a:ext cx="171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Line 11"/>
            <p:cNvSpPr/>
            <p:nvPr/>
          </p:nvSpPr>
          <p:spPr>
            <a:xfrm>
              <a:off x="1238400" y="415296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Line 12"/>
            <p:cNvSpPr/>
            <p:nvPr/>
          </p:nvSpPr>
          <p:spPr>
            <a:xfrm>
              <a:off x="1257480" y="28386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Line 13"/>
            <p:cNvSpPr/>
            <p:nvPr/>
          </p:nvSpPr>
          <p:spPr>
            <a:xfrm>
              <a:off x="1238400" y="55818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Rectangle 14"/>
            <p:cNvSpPr/>
            <p:nvPr/>
          </p:nvSpPr>
          <p:spPr>
            <a:xfrm>
              <a:off x="402120" y="5246640"/>
              <a:ext cx="796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Rectangle 15"/>
            <p:cNvSpPr/>
            <p:nvPr/>
          </p:nvSpPr>
          <p:spPr>
            <a:xfrm>
              <a:off x="325440" y="45417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" name="Rectangle 16"/>
            <p:cNvSpPr/>
            <p:nvPr/>
          </p:nvSpPr>
          <p:spPr>
            <a:xfrm>
              <a:off x="344520" y="38559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Rectangle 17"/>
            <p:cNvSpPr/>
            <p:nvPr/>
          </p:nvSpPr>
          <p:spPr>
            <a:xfrm>
              <a:off x="325440" y="31701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Rectangle 18"/>
            <p:cNvSpPr/>
            <p:nvPr/>
          </p:nvSpPr>
          <p:spPr>
            <a:xfrm>
              <a:off x="325440" y="25606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Rectangle 19"/>
            <p:cNvSpPr/>
            <p:nvPr/>
          </p:nvSpPr>
          <p:spPr>
            <a:xfrm>
              <a:off x="8403480" y="6265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4" name="Rectangle 20"/>
          <p:cNvSpPr/>
          <p:nvPr/>
        </p:nvSpPr>
        <p:spPr>
          <a:xfrm>
            <a:off x="1511280" y="2635200"/>
            <a:ext cx="768240" cy="33973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Rectangle 21"/>
          <p:cNvSpPr/>
          <p:nvPr/>
        </p:nvSpPr>
        <p:spPr>
          <a:xfrm>
            <a:off x="1640880" y="5265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Rectangle 22"/>
          <p:cNvSpPr/>
          <p:nvPr/>
        </p:nvSpPr>
        <p:spPr>
          <a:xfrm>
            <a:off x="2349360" y="3092400"/>
            <a:ext cx="844560" cy="2940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Rectangle 23"/>
          <p:cNvSpPr/>
          <p:nvPr/>
        </p:nvSpPr>
        <p:spPr>
          <a:xfrm>
            <a:off x="251712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Rectangle 24"/>
          <p:cNvSpPr/>
          <p:nvPr/>
        </p:nvSpPr>
        <p:spPr>
          <a:xfrm>
            <a:off x="3263760" y="3720960"/>
            <a:ext cx="863640" cy="22924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25"/>
          <p:cNvSpPr/>
          <p:nvPr/>
        </p:nvSpPr>
        <p:spPr>
          <a:xfrm>
            <a:off x="346968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5360" y="1409400"/>
            <a:ext cx="80200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You could rank the projects by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2" name="Group 4"/>
          <p:cNvGrpSpPr/>
          <p:nvPr/>
        </p:nvGrpSpPr>
        <p:grpSpPr>
          <a:xfrm>
            <a:off x="211680" y="1998720"/>
            <a:ext cx="8580960" cy="4847040"/>
            <a:chOff x="211680" y="1998720"/>
            <a:chExt cx="8580960" cy="4847040"/>
          </a:xfrm>
        </p:grpSpPr>
        <p:grpSp>
          <p:nvGrpSpPr>
            <p:cNvPr id="343" name="Group 5"/>
            <p:cNvGrpSpPr/>
            <p:nvPr/>
          </p:nvGrpSpPr>
          <p:grpSpPr>
            <a:xfrm>
              <a:off x="1428840" y="2438280"/>
              <a:ext cx="7048440" cy="3638520"/>
              <a:chOff x="1428840" y="2438280"/>
              <a:chExt cx="7048440" cy="3638520"/>
            </a:xfrm>
          </p:grpSpPr>
          <p:sp>
            <p:nvSpPr>
              <p:cNvPr id="344" name="Line 6"/>
              <p:cNvSpPr/>
              <p:nvPr/>
            </p:nvSpPr>
            <p:spPr>
              <a:xfrm>
                <a:off x="1447920" y="2438280"/>
                <a:ext cx="0" cy="36385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5" name="Line 7"/>
              <p:cNvSpPr/>
              <p:nvPr/>
            </p:nvSpPr>
            <p:spPr>
              <a:xfrm>
                <a:off x="1428840" y="6076800"/>
                <a:ext cx="70484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46" name="Rectangle 8"/>
            <p:cNvSpPr/>
            <p:nvPr/>
          </p:nvSpPr>
          <p:spPr>
            <a:xfrm>
              <a:off x="211680" y="1998720"/>
              <a:ext cx="102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IRR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7" name="Line 9"/>
            <p:cNvSpPr/>
            <p:nvPr/>
          </p:nvSpPr>
          <p:spPr>
            <a:xfrm>
              <a:off x="1238400" y="4896000"/>
              <a:ext cx="190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8" name="Line 10"/>
            <p:cNvSpPr/>
            <p:nvPr/>
          </p:nvSpPr>
          <p:spPr>
            <a:xfrm>
              <a:off x="1257480" y="3448080"/>
              <a:ext cx="171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1238400" y="415296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>
              <a:off x="1257480" y="28386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>
              <a:off x="1238400" y="55818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Rectangle 14"/>
            <p:cNvSpPr/>
            <p:nvPr/>
          </p:nvSpPr>
          <p:spPr>
            <a:xfrm>
              <a:off x="402120" y="5246640"/>
              <a:ext cx="796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3" name="Rectangle 15"/>
            <p:cNvSpPr/>
            <p:nvPr/>
          </p:nvSpPr>
          <p:spPr>
            <a:xfrm>
              <a:off x="325440" y="45417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4" name="Rectangle 16"/>
            <p:cNvSpPr/>
            <p:nvPr/>
          </p:nvSpPr>
          <p:spPr>
            <a:xfrm>
              <a:off x="344520" y="38559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5" name="Rectangle 17"/>
            <p:cNvSpPr/>
            <p:nvPr/>
          </p:nvSpPr>
          <p:spPr>
            <a:xfrm>
              <a:off x="325440" y="31701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6" name="Rectangle 18"/>
            <p:cNvSpPr/>
            <p:nvPr/>
          </p:nvSpPr>
          <p:spPr>
            <a:xfrm>
              <a:off x="325440" y="25606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8403480" y="6265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8" name="Rectangle 20"/>
          <p:cNvSpPr/>
          <p:nvPr/>
        </p:nvSpPr>
        <p:spPr>
          <a:xfrm>
            <a:off x="1511280" y="2635200"/>
            <a:ext cx="768240" cy="33973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Rectangle 21"/>
          <p:cNvSpPr/>
          <p:nvPr/>
        </p:nvSpPr>
        <p:spPr>
          <a:xfrm>
            <a:off x="1640880" y="5265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Rectangle 22"/>
          <p:cNvSpPr/>
          <p:nvPr/>
        </p:nvSpPr>
        <p:spPr>
          <a:xfrm>
            <a:off x="2349360" y="3092400"/>
            <a:ext cx="844560" cy="2940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Rectangle 23"/>
          <p:cNvSpPr/>
          <p:nvPr/>
        </p:nvSpPr>
        <p:spPr>
          <a:xfrm>
            <a:off x="251712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Rectangle 24"/>
          <p:cNvSpPr/>
          <p:nvPr/>
        </p:nvSpPr>
        <p:spPr>
          <a:xfrm>
            <a:off x="3263760" y="3720960"/>
            <a:ext cx="863640" cy="22924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Rectangle 25"/>
          <p:cNvSpPr/>
          <p:nvPr/>
        </p:nvSpPr>
        <p:spPr>
          <a:xfrm>
            <a:off x="346968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Rectangle 26"/>
          <p:cNvSpPr/>
          <p:nvPr/>
        </p:nvSpPr>
        <p:spPr>
          <a:xfrm>
            <a:off x="4197240" y="4216320"/>
            <a:ext cx="978120" cy="1797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" name="Rectangle 27"/>
          <p:cNvSpPr/>
          <p:nvPr/>
        </p:nvSpPr>
        <p:spPr>
          <a:xfrm>
            <a:off x="4460040" y="52275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360" y="1409400"/>
            <a:ext cx="80200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You could rank the projects by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211680" y="1998720"/>
            <a:ext cx="8580960" cy="4847040"/>
            <a:chOff x="211680" y="1998720"/>
            <a:chExt cx="8580960" cy="4847040"/>
          </a:xfrm>
        </p:grpSpPr>
        <p:grpSp>
          <p:nvGrpSpPr>
            <p:cNvPr id="369" name="Group 5"/>
            <p:cNvGrpSpPr/>
            <p:nvPr/>
          </p:nvGrpSpPr>
          <p:grpSpPr>
            <a:xfrm>
              <a:off x="1428840" y="2438280"/>
              <a:ext cx="7048440" cy="3638520"/>
              <a:chOff x="1428840" y="2438280"/>
              <a:chExt cx="7048440" cy="3638520"/>
            </a:xfrm>
          </p:grpSpPr>
          <p:sp>
            <p:nvSpPr>
              <p:cNvPr id="370" name="Line 6"/>
              <p:cNvSpPr/>
              <p:nvPr/>
            </p:nvSpPr>
            <p:spPr>
              <a:xfrm>
                <a:off x="1447920" y="2438280"/>
                <a:ext cx="0" cy="36385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1" name="Line 7"/>
              <p:cNvSpPr/>
              <p:nvPr/>
            </p:nvSpPr>
            <p:spPr>
              <a:xfrm>
                <a:off x="1428840" y="6076800"/>
                <a:ext cx="70484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2" name="Rectangle 8"/>
            <p:cNvSpPr/>
            <p:nvPr/>
          </p:nvSpPr>
          <p:spPr>
            <a:xfrm>
              <a:off x="211680" y="1998720"/>
              <a:ext cx="102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IRR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3" name="Line 9"/>
            <p:cNvSpPr/>
            <p:nvPr/>
          </p:nvSpPr>
          <p:spPr>
            <a:xfrm>
              <a:off x="1238400" y="4896000"/>
              <a:ext cx="190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4" name="Line 10"/>
            <p:cNvSpPr/>
            <p:nvPr/>
          </p:nvSpPr>
          <p:spPr>
            <a:xfrm>
              <a:off x="1257480" y="3448080"/>
              <a:ext cx="171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1238400" y="415296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>
              <a:off x="1257480" y="28386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>
              <a:off x="1238400" y="55818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8" name="Rectangle 14"/>
            <p:cNvSpPr/>
            <p:nvPr/>
          </p:nvSpPr>
          <p:spPr>
            <a:xfrm>
              <a:off x="402120" y="5246640"/>
              <a:ext cx="796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9" name="Rectangle 15"/>
            <p:cNvSpPr/>
            <p:nvPr/>
          </p:nvSpPr>
          <p:spPr>
            <a:xfrm>
              <a:off x="325440" y="45417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0" name="Rectangle 16"/>
            <p:cNvSpPr/>
            <p:nvPr/>
          </p:nvSpPr>
          <p:spPr>
            <a:xfrm>
              <a:off x="344520" y="38559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325440" y="31701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325440" y="25606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Rectangle 19"/>
            <p:cNvSpPr/>
            <p:nvPr/>
          </p:nvSpPr>
          <p:spPr>
            <a:xfrm>
              <a:off x="8403480" y="6265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84" name="Rectangle 20"/>
          <p:cNvSpPr/>
          <p:nvPr/>
        </p:nvSpPr>
        <p:spPr>
          <a:xfrm>
            <a:off x="1511280" y="2635200"/>
            <a:ext cx="768240" cy="33973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1640880" y="5265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22"/>
          <p:cNvSpPr/>
          <p:nvPr/>
        </p:nvSpPr>
        <p:spPr>
          <a:xfrm>
            <a:off x="2349360" y="3092400"/>
            <a:ext cx="844560" cy="2940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251712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3263760" y="3720960"/>
            <a:ext cx="863640" cy="22924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346968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Rectangle 26"/>
          <p:cNvSpPr/>
          <p:nvPr/>
        </p:nvSpPr>
        <p:spPr>
          <a:xfrm>
            <a:off x="4197240" y="4216320"/>
            <a:ext cx="978120" cy="1797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4460040" y="52275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5245200" y="4387680"/>
            <a:ext cx="958680" cy="162576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5488920" y="51894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95360" y="1409400"/>
            <a:ext cx="80200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You could rank the projects by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211680" y="1998720"/>
            <a:ext cx="8580960" cy="4847040"/>
            <a:chOff x="211680" y="1998720"/>
            <a:chExt cx="8580960" cy="4847040"/>
          </a:xfrm>
        </p:grpSpPr>
        <p:grpSp>
          <p:nvGrpSpPr>
            <p:cNvPr id="397" name="Group 5"/>
            <p:cNvGrpSpPr/>
            <p:nvPr/>
          </p:nvGrpSpPr>
          <p:grpSpPr>
            <a:xfrm>
              <a:off x="1428840" y="2438280"/>
              <a:ext cx="7048440" cy="3638520"/>
              <a:chOff x="1428840" y="2438280"/>
              <a:chExt cx="7048440" cy="3638520"/>
            </a:xfrm>
          </p:grpSpPr>
          <p:sp>
            <p:nvSpPr>
              <p:cNvPr id="398" name="Line 6"/>
              <p:cNvSpPr/>
              <p:nvPr/>
            </p:nvSpPr>
            <p:spPr>
              <a:xfrm>
                <a:off x="1447920" y="2438280"/>
                <a:ext cx="0" cy="36385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9" name="Line 7"/>
              <p:cNvSpPr/>
              <p:nvPr/>
            </p:nvSpPr>
            <p:spPr>
              <a:xfrm>
                <a:off x="1428840" y="6076800"/>
                <a:ext cx="70484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0" name="Rectangle 8"/>
            <p:cNvSpPr/>
            <p:nvPr/>
          </p:nvSpPr>
          <p:spPr>
            <a:xfrm>
              <a:off x="211680" y="1998720"/>
              <a:ext cx="102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IRR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Line 9"/>
            <p:cNvSpPr/>
            <p:nvPr/>
          </p:nvSpPr>
          <p:spPr>
            <a:xfrm>
              <a:off x="1238400" y="4896000"/>
              <a:ext cx="190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2" name="Line 10"/>
            <p:cNvSpPr/>
            <p:nvPr/>
          </p:nvSpPr>
          <p:spPr>
            <a:xfrm>
              <a:off x="1257480" y="3448080"/>
              <a:ext cx="171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3" name="Line 11"/>
            <p:cNvSpPr/>
            <p:nvPr/>
          </p:nvSpPr>
          <p:spPr>
            <a:xfrm>
              <a:off x="1238400" y="415296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Line 12"/>
            <p:cNvSpPr/>
            <p:nvPr/>
          </p:nvSpPr>
          <p:spPr>
            <a:xfrm>
              <a:off x="1257480" y="28386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>
              <a:off x="1238400" y="55818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Rectangle 14"/>
            <p:cNvSpPr/>
            <p:nvPr/>
          </p:nvSpPr>
          <p:spPr>
            <a:xfrm>
              <a:off x="402120" y="5246640"/>
              <a:ext cx="796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Rectangle 15"/>
            <p:cNvSpPr/>
            <p:nvPr/>
          </p:nvSpPr>
          <p:spPr>
            <a:xfrm>
              <a:off x="325440" y="45417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Rectangle 16"/>
            <p:cNvSpPr/>
            <p:nvPr/>
          </p:nvSpPr>
          <p:spPr>
            <a:xfrm>
              <a:off x="344520" y="38559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Rectangle 17"/>
            <p:cNvSpPr/>
            <p:nvPr/>
          </p:nvSpPr>
          <p:spPr>
            <a:xfrm>
              <a:off x="325440" y="31701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Rectangle 18"/>
            <p:cNvSpPr/>
            <p:nvPr/>
          </p:nvSpPr>
          <p:spPr>
            <a:xfrm>
              <a:off x="325440" y="25606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Rectangle 19"/>
            <p:cNvSpPr/>
            <p:nvPr/>
          </p:nvSpPr>
          <p:spPr>
            <a:xfrm>
              <a:off x="8403480" y="6265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2" name="Rectangle 20"/>
          <p:cNvSpPr/>
          <p:nvPr/>
        </p:nvSpPr>
        <p:spPr>
          <a:xfrm>
            <a:off x="1511280" y="2635200"/>
            <a:ext cx="768240" cy="33973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Rectangle 21"/>
          <p:cNvSpPr/>
          <p:nvPr/>
        </p:nvSpPr>
        <p:spPr>
          <a:xfrm>
            <a:off x="1640880" y="5265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Rectangle 22"/>
          <p:cNvSpPr/>
          <p:nvPr/>
        </p:nvSpPr>
        <p:spPr>
          <a:xfrm>
            <a:off x="2349360" y="3092400"/>
            <a:ext cx="844560" cy="2940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Rectangle 23"/>
          <p:cNvSpPr/>
          <p:nvPr/>
        </p:nvSpPr>
        <p:spPr>
          <a:xfrm>
            <a:off x="251712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Rectangle 24"/>
          <p:cNvSpPr/>
          <p:nvPr/>
        </p:nvSpPr>
        <p:spPr>
          <a:xfrm>
            <a:off x="3263760" y="3720960"/>
            <a:ext cx="863640" cy="22924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Rectangle 25"/>
          <p:cNvSpPr/>
          <p:nvPr/>
        </p:nvSpPr>
        <p:spPr>
          <a:xfrm>
            <a:off x="346968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Rectangle 26"/>
          <p:cNvSpPr/>
          <p:nvPr/>
        </p:nvSpPr>
        <p:spPr>
          <a:xfrm>
            <a:off x="4197240" y="4216320"/>
            <a:ext cx="978120" cy="1797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Rectangle 27"/>
          <p:cNvSpPr/>
          <p:nvPr/>
        </p:nvSpPr>
        <p:spPr>
          <a:xfrm>
            <a:off x="4460040" y="52275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Rectangle 28"/>
          <p:cNvSpPr/>
          <p:nvPr/>
        </p:nvSpPr>
        <p:spPr>
          <a:xfrm>
            <a:off x="5245200" y="4387680"/>
            <a:ext cx="958680" cy="162576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Rectangle 29"/>
          <p:cNvSpPr/>
          <p:nvPr/>
        </p:nvSpPr>
        <p:spPr>
          <a:xfrm>
            <a:off x="5488920" y="518940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Line 30"/>
          <p:cNvSpPr/>
          <p:nvPr/>
        </p:nvSpPr>
        <p:spPr>
          <a:xfrm>
            <a:off x="4191120" y="2514600"/>
            <a:ext cx="0" cy="3524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4059720" y="6122880"/>
            <a:ext cx="68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$X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Rectangle 32"/>
          <p:cNvSpPr/>
          <p:nvPr/>
        </p:nvSpPr>
        <p:spPr>
          <a:xfrm>
            <a:off x="4476240" y="2370240"/>
            <a:ext cx="39034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ur budget is limited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 we accept only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s 1, 2, and 3.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95360" y="1409400"/>
            <a:ext cx="8020080" cy="78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You could rank the projects by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211680" y="1998720"/>
            <a:ext cx="8580960" cy="4847040"/>
            <a:chOff x="211680" y="1998720"/>
            <a:chExt cx="8580960" cy="4847040"/>
          </a:xfrm>
        </p:grpSpPr>
        <p:grpSp>
          <p:nvGrpSpPr>
            <p:cNvPr id="428" name="Group 5"/>
            <p:cNvGrpSpPr/>
            <p:nvPr/>
          </p:nvGrpSpPr>
          <p:grpSpPr>
            <a:xfrm>
              <a:off x="1428840" y="2438280"/>
              <a:ext cx="7048440" cy="3638520"/>
              <a:chOff x="1428840" y="2438280"/>
              <a:chExt cx="7048440" cy="3638520"/>
            </a:xfrm>
          </p:grpSpPr>
          <p:sp>
            <p:nvSpPr>
              <p:cNvPr id="429" name="Line 6"/>
              <p:cNvSpPr/>
              <p:nvPr/>
            </p:nvSpPr>
            <p:spPr>
              <a:xfrm>
                <a:off x="1447920" y="2438280"/>
                <a:ext cx="0" cy="36385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0" name="Line 7"/>
              <p:cNvSpPr/>
              <p:nvPr/>
            </p:nvSpPr>
            <p:spPr>
              <a:xfrm>
                <a:off x="1428840" y="6076800"/>
                <a:ext cx="70484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1" name="Rectangle 8"/>
            <p:cNvSpPr/>
            <p:nvPr/>
          </p:nvSpPr>
          <p:spPr>
            <a:xfrm>
              <a:off x="211680" y="1998720"/>
              <a:ext cx="1024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IRR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Line 9"/>
            <p:cNvSpPr/>
            <p:nvPr/>
          </p:nvSpPr>
          <p:spPr>
            <a:xfrm>
              <a:off x="1238400" y="4896000"/>
              <a:ext cx="19044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Line 10"/>
            <p:cNvSpPr/>
            <p:nvPr/>
          </p:nvSpPr>
          <p:spPr>
            <a:xfrm>
              <a:off x="1257480" y="3448080"/>
              <a:ext cx="171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Line 11"/>
            <p:cNvSpPr/>
            <p:nvPr/>
          </p:nvSpPr>
          <p:spPr>
            <a:xfrm>
              <a:off x="1238400" y="415296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Line 12"/>
            <p:cNvSpPr/>
            <p:nvPr/>
          </p:nvSpPr>
          <p:spPr>
            <a:xfrm>
              <a:off x="1257480" y="28386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Line 13"/>
            <p:cNvSpPr/>
            <p:nvPr/>
          </p:nvSpPr>
          <p:spPr>
            <a:xfrm>
              <a:off x="1238400" y="5581800"/>
              <a:ext cx="209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Rectangle 14"/>
            <p:cNvSpPr/>
            <p:nvPr/>
          </p:nvSpPr>
          <p:spPr>
            <a:xfrm>
              <a:off x="402120" y="5246640"/>
              <a:ext cx="7963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Rectangle 15"/>
            <p:cNvSpPr/>
            <p:nvPr/>
          </p:nvSpPr>
          <p:spPr>
            <a:xfrm>
              <a:off x="325440" y="45417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Rectangle 16"/>
            <p:cNvSpPr/>
            <p:nvPr/>
          </p:nvSpPr>
          <p:spPr>
            <a:xfrm>
              <a:off x="344520" y="38559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0" name="Rectangle 17"/>
            <p:cNvSpPr/>
            <p:nvPr/>
          </p:nvSpPr>
          <p:spPr>
            <a:xfrm>
              <a:off x="325440" y="317016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0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Rectangle 18"/>
            <p:cNvSpPr/>
            <p:nvPr/>
          </p:nvSpPr>
          <p:spPr>
            <a:xfrm>
              <a:off x="325440" y="25606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25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8403480" y="62658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$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43" name="Rectangle 20"/>
          <p:cNvSpPr/>
          <p:nvPr/>
        </p:nvSpPr>
        <p:spPr>
          <a:xfrm>
            <a:off x="1511280" y="2635200"/>
            <a:ext cx="768240" cy="33973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Rectangle 21"/>
          <p:cNvSpPr/>
          <p:nvPr/>
        </p:nvSpPr>
        <p:spPr>
          <a:xfrm>
            <a:off x="1640880" y="526572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Rectangle 22"/>
          <p:cNvSpPr/>
          <p:nvPr/>
        </p:nvSpPr>
        <p:spPr>
          <a:xfrm>
            <a:off x="2349360" y="3092400"/>
            <a:ext cx="844560" cy="294012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Rectangle 23"/>
          <p:cNvSpPr/>
          <p:nvPr/>
        </p:nvSpPr>
        <p:spPr>
          <a:xfrm>
            <a:off x="251712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Rectangle 24"/>
          <p:cNvSpPr/>
          <p:nvPr/>
        </p:nvSpPr>
        <p:spPr>
          <a:xfrm>
            <a:off x="3263760" y="3720960"/>
            <a:ext cx="863640" cy="22924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Rectangle 25"/>
          <p:cNvSpPr/>
          <p:nvPr/>
        </p:nvSpPr>
        <p:spPr>
          <a:xfrm>
            <a:off x="3469680" y="524664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Line 26"/>
          <p:cNvSpPr/>
          <p:nvPr/>
        </p:nvSpPr>
        <p:spPr>
          <a:xfrm>
            <a:off x="4191120" y="2514600"/>
            <a:ext cx="0" cy="35244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Rectangle 27"/>
          <p:cNvSpPr/>
          <p:nvPr/>
        </p:nvSpPr>
        <p:spPr>
          <a:xfrm>
            <a:off x="4059720" y="6122880"/>
            <a:ext cx="683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$X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Rectangle 28"/>
          <p:cNvSpPr/>
          <p:nvPr/>
        </p:nvSpPr>
        <p:spPr>
          <a:xfrm>
            <a:off x="4476240" y="2370240"/>
            <a:ext cx="39034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ur budget is limited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 we accept only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s 1, 2, and 3.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200400" y="298440"/>
            <a:ext cx="4927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Ration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95360" y="1409760"/>
            <a:ext cx="8020080" cy="35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anking projects by IRR is not always the best way to deal with a limited capital budge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t’s better to pick the largest NPV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Let’s try ranking projects by NPV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629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roblems with Project Ranking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1)  Mutually exclusive projects of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unequal siz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(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size disparity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roblem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NPV decision may not agree with IRR or PI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select the project with the larges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PV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500"/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Size Disparity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69000"/>
          </a:bodyPr>
          <a:p>
            <a:pPr marL="236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135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RR = 15.89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NPV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9,1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I = 1.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4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4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4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Size Disparity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8098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69000"/>
          </a:bodyPr>
          <a:p>
            <a:pPr marL="236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30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15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15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15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RR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3.38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V = $6,02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 = 1.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69000"/>
          </a:bodyPr>
          <a:p>
            <a:pPr marL="236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135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RR = 15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9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V = $9,1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 = 1.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593064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Budgeting Step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257480"/>
            <a:ext cx="91249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Evaluate Cash Fl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9" name="Group 24"/>
          <p:cNvGrpSpPr/>
          <p:nvPr/>
        </p:nvGrpSpPr>
        <p:grpSpPr>
          <a:xfrm>
            <a:off x="326520" y="3664080"/>
            <a:ext cx="8230680" cy="1086120"/>
            <a:chOff x="326520" y="3664080"/>
            <a:chExt cx="8230680" cy="1086120"/>
          </a:xfrm>
        </p:grpSpPr>
        <p:grpSp>
          <p:nvGrpSpPr>
            <p:cNvPr id="110" name="Group 14"/>
            <p:cNvGrpSpPr/>
            <p:nvPr/>
          </p:nvGrpSpPr>
          <p:grpSpPr>
            <a:xfrm>
              <a:off x="514440" y="3664080"/>
              <a:ext cx="7810560" cy="495000"/>
              <a:chOff x="514440" y="3664080"/>
              <a:chExt cx="7810560" cy="495000"/>
            </a:xfrm>
          </p:grpSpPr>
          <p:sp>
            <p:nvSpPr>
              <p:cNvPr id="111" name="Line 4"/>
              <p:cNvSpPr/>
              <p:nvPr/>
            </p:nvSpPr>
            <p:spPr>
              <a:xfrm>
                <a:off x="514440" y="3911760"/>
                <a:ext cx="77914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" name="Line 5"/>
              <p:cNvSpPr/>
              <p:nvPr/>
            </p:nvSpPr>
            <p:spPr>
              <a:xfrm>
                <a:off x="8325000" y="3695760"/>
                <a:ext cx="0" cy="3999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" name="Line 6"/>
              <p:cNvSpPr/>
              <p:nvPr/>
            </p:nvSpPr>
            <p:spPr>
              <a:xfrm>
                <a:off x="16956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>
                <a:off x="514440" y="3720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26100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Line 9"/>
              <p:cNvSpPr/>
              <p:nvPr/>
            </p:nvSpPr>
            <p:spPr>
              <a:xfrm>
                <a:off x="3524400" y="3664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Line 10"/>
              <p:cNvSpPr/>
              <p:nvPr/>
            </p:nvSpPr>
            <p:spPr>
              <a:xfrm>
                <a:off x="44388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>
                <a:off x="6267600" y="3683160"/>
                <a:ext cx="0" cy="4759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Line 12"/>
              <p:cNvSpPr/>
              <p:nvPr/>
            </p:nvSpPr>
            <p:spPr>
              <a:xfrm>
                <a:off x="71820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Line 13"/>
              <p:cNvSpPr/>
              <p:nvPr/>
            </p:nvSpPr>
            <p:spPr>
              <a:xfrm>
                <a:off x="53532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1" name="Rectangle 15"/>
            <p:cNvSpPr/>
            <p:nvPr/>
          </p:nvSpPr>
          <p:spPr>
            <a:xfrm>
              <a:off x="32652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Rectangle 16"/>
            <p:cNvSpPr/>
            <p:nvPr/>
          </p:nvSpPr>
          <p:spPr>
            <a:xfrm>
              <a:off x="148860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Rectangle 17"/>
            <p:cNvSpPr/>
            <p:nvPr/>
          </p:nvSpPr>
          <p:spPr>
            <a:xfrm>
              <a:off x="24220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331740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Rectangle 19"/>
            <p:cNvSpPr/>
            <p:nvPr/>
          </p:nvSpPr>
          <p:spPr>
            <a:xfrm>
              <a:off x="42508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Rectangle 20"/>
            <p:cNvSpPr/>
            <p:nvPr/>
          </p:nvSpPr>
          <p:spPr>
            <a:xfrm>
              <a:off x="51652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Rectangle 21"/>
            <p:cNvSpPr/>
            <p:nvPr/>
          </p:nvSpPr>
          <p:spPr>
            <a:xfrm>
              <a:off x="8117640" y="4108320"/>
              <a:ext cx="43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Rectangle 22"/>
            <p:cNvSpPr/>
            <p:nvPr/>
          </p:nvSpPr>
          <p:spPr>
            <a:xfrm>
              <a:off x="604152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" name="Rectangle 23"/>
            <p:cNvSpPr/>
            <p:nvPr/>
          </p:nvSpPr>
          <p:spPr>
            <a:xfrm>
              <a:off x="6861960" y="4048200"/>
              <a:ext cx="817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. . .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Size Disparity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05160" y="1676520"/>
            <a:ext cx="380988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69000"/>
          </a:bodyPr>
          <a:p>
            <a:pPr marL="236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30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15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15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15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RR = 23.38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V = $6,02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I = 1.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358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69000"/>
          </a:bodyPr>
          <a:p>
            <a:pPr marL="236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135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60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RR = 15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9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PV = $9,1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36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 = 1.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roblems with Project Ranking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830592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2)  The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time disparity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roblem with mutually exclusive proj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PV and PI assume cash flows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invested at the required rate of retur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for the projec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RR assumes cash flows ar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invested at the IR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NPV or PI decision may not agree with the IRR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select the larges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PV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6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500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6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Time Disparity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1024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(48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1,2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2,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39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42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RR = 18.1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NPV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$9,43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I = 1.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Time Disparity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46,5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36,5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24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2,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2,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RR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5.51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V = $8,45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 = 1.1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1066680" y="1371240"/>
            <a:ext cx="381024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(48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1,2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2,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39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42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RR = 18.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V = $9,43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 = 1.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Time Disparity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105160" y="1371240"/>
            <a:ext cx="380988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B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(46,5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36,5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24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2,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2,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IRR = 25.51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PV = $8,45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I = 1.1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1066680" y="1371240"/>
            <a:ext cx="381024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70000"/>
          </a:bodyPr>
          <a:p>
            <a:pPr marL="240120"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ject 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(48,000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1,2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2,4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39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42,0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equired return = 12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RR = 18.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PV = $9,43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40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I = 1.2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23924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Mutually Exclusive Investments with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Unequal Liv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9819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uppose our firm is planning to expand and we have to select 1 of 2 machines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y differ in terms of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conomic lif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nd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pacit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do we decide which machine to selec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7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2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7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066320" y="247680"/>
            <a:ext cx="7620120" cy="661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after-tax cash flows are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chine 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chine 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0             (45,000)          (45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               20,000             12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               20,000             12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3               20,000             12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4                                       12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5                                       12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6                                       12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ssume a required return of 14%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06420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ep 1:  Calculate NPV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353360" cy="38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P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,43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PV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,66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, does this mean #2 is better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o!  The two NPVs can’t be compared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2164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Step 2:  Equivalent Annual Annuity (EAA) method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956360" cy="43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f we assume that each project will b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eplaced an infinite number of tim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in the future, we can convert each NPV to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nnuity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projects’ EAA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be compared to determine which is the best project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AA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Simply annuitize the NPV over the project’s lif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47676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AA with your calculator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imply “spread the NPV over the life of the project”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chine 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V = 1433,  N = 3,  I = 14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lve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MT = -617.24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chine 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V = 1664,  N = 6,  I = 14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lve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MT = -427.9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593064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Budgeting Step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257480"/>
            <a:ext cx="91249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Evaluate Cash Fl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" name="Group 24"/>
          <p:cNvGrpSpPr/>
          <p:nvPr/>
        </p:nvGrpSpPr>
        <p:grpSpPr>
          <a:xfrm>
            <a:off x="326520" y="3664080"/>
            <a:ext cx="8230680" cy="1086120"/>
            <a:chOff x="326520" y="3664080"/>
            <a:chExt cx="8230680" cy="1086120"/>
          </a:xfrm>
        </p:grpSpPr>
        <p:grpSp>
          <p:nvGrpSpPr>
            <p:cNvPr id="133" name="Group 14"/>
            <p:cNvGrpSpPr/>
            <p:nvPr/>
          </p:nvGrpSpPr>
          <p:grpSpPr>
            <a:xfrm>
              <a:off x="514440" y="3664080"/>
              <a:ext cx="7810560" cy="495000"/>
              <a:chOff x="514440" y="3664080"/>
              <a:chExt cx="7810560" cy="495000"/>
            </a:xfrm>
          </p:grpSpPr>
          <p:sp>
            <p:nvSpPr>
              <p:cNvPr id="134" name="Line 4"/>
              <p:cNvSpPr/>
              <p:nvPr/>
            </p:nvSpPr>
            <p:spPr>
              <a:xfrm>
                <a:off x="514440" y="3911760"/>
                <a:ext cx="77914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Line 5"/>
              <p:cNvSpPr/>
              <p:nvPr/>
            </p:nvSpPr>
            <p:spPr>
              <a:xfrm>
                <a:off x="8325000" y="3695760"/>
                <a:ext cx="0" cy="3999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Line 6"/>
              <p:cNvSpPr/>
              <p:nvPr/>
            </p:nvSpPr>
            <p:spPr>
              <a:xfrm>
                <a:off x="16956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Line 7"/>
              <p:cNvSpPr/>
              <p:nvPr/>
            </p:nvSpPr>
            <p:spPr>
              <a:xfrm>
                <a:off x="514440" y="3720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Line 8"/>
              <p:cNvSpPr/>
              <p:nvPr/>
            </p:nvSpPr>
            <p:spPr>
              <a:xfrm>
                <a:off x="26100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Line 9"/>
              <p:cNvSpPr/>
              <p:nvPr/>
            </p:nvSpPr>
            <p:spPr>
              <a:xfrm>
                <a:off x="3524400" y="3664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Line 10"/>
              <p:cNvSpPr/>
              <p:nvPr/>
            </p:nvSpPr>
            <p:spPr>
              <a:xfrm>
                <a:off x="44388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Line 11"/>
              <p:cNvSpPr/>
              <p:nvPr/>
            </p:nvSpPr>
            <p:spPr>
              <a:xfrm>
                <a:off x="6267600" y="3683160"/>
                <a:ext cx="0" cy="4759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Line 12"/>
              <p:cNvSpPr/>
              <p:nvPr/>
            </p:nvSpPr>
            <p:spPr>
              <a:xfrm>
                <a:off x="71820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Line 13"/>
              <p:cNvSpPr/>
              <p:nvPr/>
            </p:nvSpPr>
            <p:spPr>
              <a:xfrm>
                <a:off x="53532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4" name="Rectangle 15"/>
            <p:cNvSpPr/>
            <p:nvPr/>
          </p:nvSpPr>
          <p:spPr>
            <a:xfrm>
              <a:off x="32652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148860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" name="Rectangle 17"/>
            <p:cNvSpPr/>
            <p:nvPr/>
          </p:nvSpPr>
          <p:spPr>
            <a:xfrm>
              <a:off x="24220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Rectangle 18"/>
            <p:cNvSpPr/>
            <p:nvPr/>
          </p:nvSpPr>
          <p:spPr>
            <a:xfrm>
              <a:off x="331740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" name="Rectangle 19"/>
            <p:cNvSpPr/>
            <p:nvPr/>
          </p:nvSpPr>
          <p:spPr>
            <a:xfrm>
              <a:off x="42508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" name="Rectangle 20"/>
            <p:cNvSpPr/>
            <p:nvPr/>
          </p:nvSpPr>
          <p:spPr>
            <a:xfrm>
              <a:off x="51652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Rectangle 21"/>
            <p:cNvSpPr/>
            <p:nvPr/>
          </p:nvSpPr>
          <p:spPr>
            <a:xfrm>
              <a:off x="8117640" y="4108320"/>
              <a:ext cx="43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Rectangle 22"/>
            <p:cNvSpPr/>
            <p:nvPr/>
          </p:nvSpPr>
          <p:spPr>
            <a:xfrm>
              <a:off x="604152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Rectangle 23"/>
            <p:cNvSpPr/>
            <p:nvPr/>
          </p:nvSpPr>
          <p:spPr>
            <a:xfrm>
              <a:off x="6861960" y="4048200"/>
              <a:ext cx="817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. . .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3" name="Rectangle 25"/>
          <p:cNvSpPr/>
          <p:nvPr/>
        </p:nvSpPr>
        <p:spPr>
          <a:xfrm>
            <a:off x="102240" y="2649600"/>
            <a:ext cx="127152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itia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utlay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009440" y="304560"/>
            <a:ext cx="8134200" cy="613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$61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= $42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is tells us that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PV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annuity of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$617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er yea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PV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annuity of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$42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er yea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o, we’ve reduced a problem with different time horizons to a couple of annuiti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cision Rule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lect the highest EAA.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We would choose machine #1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7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2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7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629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ep 3:  Convert back to NPV    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6849000" y="577800"/>
            <a:ext cx="52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629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ep 3:  Convert back to NPV    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0104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ssuming infinite replacement, the EAAs are actually perpetuities.  Get the PV by dividing the EAA by the required rate of retur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6849000" y="577800"/>
            <a:ext cx="52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629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ep 3:  Convert back to NPV    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0104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ssuming infinite replacement, the EAAs are actually perpetuities.  Get the PV by dividing the EAA by the required rate of retur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PV  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= 617/.14 = $4,40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1743480" y="3733920"/>
            <a:ext cx="529560" cy="1282320"/>
            <a:chOff x="1743480" y="3733920"/>
            <a:chExt cx="529560" cy="1282320"/>
          </a:xfrm>
        </p:grpSpPr>
        <p:sp>
          <p:nvSpPr>
            <p:cNvPr id="492" name="Rectangle 5"/>
            <p:cNvSpPr/>
            <p:nvPr/>
          </p:nvSpPr>
          <p:spPr>
            <a:xfrm>
              <a:off x="1743480" y="3733920"/>
              <a:ext cx="52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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Rectangle 6"/>
            <p:cNvSpPr/>
            <p:nvPr/>
          </p:nvSpPr>
          <p:spPr>
            <a:xfrm>
              <a:off x="1752480" y="4375080"/>
              <a:ext cx="184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4" name="Rectangle 7"/>
          <p:cNvSpPr/>
          <p:nvPr/>
        </p:nvSpPr>
        <p:spPr>
          <a:xfrm>
            <a:off x="6849000" y="577800"/>
            <a:ext cx="52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629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ep 3:  Convert back to NPV    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0104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ssuming infinite replacement, the EAAs are actually perpetuities.  Get the PV by dividing the EAA by the required rate of retur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PV  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= 617/.14 = $4,40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PV  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= 428/.14 = $3,05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7" name="Group 4"/>
          <p:cNvGrpSpPr/>
          <p:nvPr/>
        </p:nvGrpSpPr>
        <p:grpSpPr>
          <a:xfrm>
            <a:off x="1743480" y="3733920"/>
            <a:ext cx="529560" cy="1282320"/>
            <a:chOff x="1743480" y="3733920"/>
            <a:chExt cx="529560" cy="1282320"/>
          </a:xfrm>
        </p:grpSpPr>
        <p:sp>
          <p:nvSpPr>
            <p:cNvPr id="498" name="Rectangle 5"/>
            <p:cNvSpPr/>
            <p:nvPr/>
          </p:nvSpPr>
          <p:spPr>
            <a:xfrm>
              <a:off x="1743480" y="3733920"/>
              <a:ext cx="52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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Rectangle 6"/>
            <p:cNvSpPr/>
            <p:nvPr/>
          </p:nvSpPr>
          <p:spPr>
            <a:xfrm>
              <a:off x="1743480" y="4375080"/>
              <a:ext cx="52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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0" name="Rectangle 7"/>
          <p:cNvSpPr/>
          <p:nvPr/>
        </p:nvSpPr>
        <p:spPr>
          <a:xfrm>
            <a:off x="6849000" y="577800"/>
            <a:ext cx="52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6294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Step 3:  Convert back to NPV     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01040" cy="497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ssuming infinite replacement, the EAAs are actually perpetuities.  Get the PV by dividing the EAA by the required rate of retur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PV  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= 617/.14 = $4,40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PV   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= 428/.14 = $3,05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s doesn’t change the answer, of course; it just converts EAA to a NPV that can be compar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3" name="Group 4"/>
          <p:cNvGrpSpPr/>
          <p:nvPr/>
        </p:nvGrpSpPr>
        <p:grpSpPr>
          <a:xfrm>
            <a:off x="1743480" y="3733920"/>
            <a:ext cx="529560" cy="1282320"/>
            <a:chOff x="1743480" y="3733920"/>
            <a:chExt cx="529560" cy="1282320"/>
          </a:xfrm>
        </p:grpSpPr>
        <p:sp>
          <p:nvSpPr>
            <p:cNvPr id="504" name="Rectangle 5"/>
            <p:cNvSpPr/>
            <p:nvPr/>
          </p:nvSpPr>
          <p:spPr>
            <a:xfrm>
              <a:off x="1743480" y="3733920"/>
              <a:ext cx="52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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5" name="Rectangle 6"/>
            <p:cNvSpPr/>
            <p:nvPr/>
          </p:nvSpPr>
          <p:spPr>
            <a:xfrm>
              <a:off x="1743480" y="4375080"/>
              <a:ext cx="52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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6" name="Rectangle 7"/>
          <p:cNvSpPr/>
          <p:nvPr/>
        </p:nvSpPr>
        <p:spPr>
          <a:xfrm>
            <a:off x="6849000" y="577800"/>
            <a:ext cx="529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2"/>
          <p:cNvSpPr/>
          <p:nvPr/>
        </p:nvSpPr>
        <p:spPr>
          <a:xfrm>
            <a:off x="120600" y="1301760"/>
            <a:ext cx="87692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400800" cy="220968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actice Problems: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sh Flows &amp; Other Topics 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in Capital Budge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509" name="Picture 5" descr=""/>
          <p:cNvPicPr/>
          <p:nvPr/>
        </p:nvPicPr>
        <p:blipFill>
          <a:blip r:embed="rId1"/>
          <a:stretch/>
        </p:blipFill>
        <p:spPr>
          <a:xfrm>
            <a:off x="2286000" y="2130480"/>
            <a:ext cx="6477120" cy="4727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oject Informatio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st of equipment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4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hipping &amp; installation will b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2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25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n net working capital required at set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3-year project life, 5-year class li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implified straight line depreci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Revenues will increase b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22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er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efects costs will fall b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er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perating  costs will rise b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3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er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alvage value after year 3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2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st of capital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2%,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marginal tax rate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4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6095520" y="-36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549400" y="330120"/>
            <a:ext cx="3225960" cy="84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blem 1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098720"/>
            <a:ext cx="762012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400,000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st of ass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(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20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hipping &amp; install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420,000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ble ass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(  25,000)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vestment in NWC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$445,000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t Initial Outla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838080" y="946080"/>
            <a:ext cx="8305920" cy="591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22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creased revenu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1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ecreased de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30,000)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creased operating cos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(84,000)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creased depreciation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116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B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(39,440)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axes (34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76,56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84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epreciation revers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60,560   =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nual Cash Flow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387000" y="63000"/>
            <a:ext cx="3645000" cy="6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or Years 1 - 3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5854680" y="101520"/>
            <a:ext cx="32259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a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593064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Budgeting Step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257480"/>
            <a:ext cx="91249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Evaluate Cash Fl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6" name="Group 24"/>
          <p:cNvGrpSpPr/>
          <p:nvPr/>
        </p:nvGrpSpPr>
        <p:grpSpPr>
          <a:xfrm>
            <a:off x="326520" y="3664080"/>
            <a:ext cx="8230680" cy="1086120"/>
            <a:chOff x="326520" y="3664080"/>
            <a:chExt cx="8230680" cy="1086120"/>
          </a:xfrm>
        </p:grpSpPr>
        <p:grpSp>
          <p:nvGrpSpPr>
            <p:cNvPr id="157" name="Group 14"/>
            <p:cNvGrpSpPr/>
            <p:nvPr/>
          </p:nvGrpSpPr>
          <p:grpSpPr>
            <a:xfrm>
              <a:off x="514440" y="3664080"/>
              <a:ext cx="7810560" cy="495000"/>
              <a:chOff x="514440" y="3664080"/>
              <a:chExt cx="7810560" cy="495000"/>
            </a:xfrm>
          </p:grpSpPr>
          <p:sp>
            <p:nvSpPr>
              <p:cNvPr id="158" name="Line 4"/>
              <p:cNvSpPr/>
              <p:nvPr/>
            </p:nvSpPr>
            <p:spPr>
              <a:xfrm>
                <a:off x="514440" y="3911760"/>
                <a:ext cx="77914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Line 5"/>
              <p:cNvSpPr/>
              <p:nvPr/>
            </p:nvSpPr>
            <p:spPr>
              <a:xfrm>
                <a:off x="8325000" y="3695760"/>
                <a:ext cx="0" cy="3999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Line 6"/>
              <p:cNvSpPr/>
              <p:nvPr/>
            </p:nvSpPr>
            <p:spPr>
              <a:xfrm>
                <a:off x="16956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Line 7"/>
              <p:cNvSpPr/>
              <p:nvPr/>
            </p:nvSpPr>
            <p:spPr>
              <a:xfrm>
                <a:off x="514440" y="3720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Line 8"/>
              <p:cNvSpPr/>
              <p:nvPr/>
            </p:nvSpPr>
            <p:spPr>
              <a:xfrm>
                <a:off x="26100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" name="Line 9"/>
              <p:cNvSpPr/>
              <p:nvPr/>
            </p:nvSpPr>
            <p:spPr>
              <a:xfrm>
                <a:off x="3524400" y="3664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" name="Line 10"/>
              <p:cNvSpPr/>
              <p:nvPr/>
            </p:nvSpPr>
            <p:spPr>
              <a:xfrm>
                <a:off x="44388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Line 11"/>
              <p:cNvSpPr/>
              <p:nvPr/>
            </p:nvSpPr>
            <p:spPr>
              <a:xfrm>
                <a:off x="6267600" y="3683160"/>
                <a:ext cx="0" cy="4759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Line 12"/>
              <p:cNvSpPr/>
              <p:nvPr/>
            </p:nvSpPr>
            <p:spPr>
              <a:xfrm>
                <a:off x="71820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Line 13"/>
              <p:cNvSpPr/>
              <p:nvPr/>
            </p:nvSpPr>
            <p:spPr>
              <a:xfrm>
                <a:off x="53532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8" name="Rectangle 15"/>
            <p:cNvSpPr/>
            <p:nvPr/>
          </p:nvSpPr>
          <p:spPr>
            <a:xfrm>
              <a:off x="32652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148860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Rectangle 17"/>
            <p:cNvSpPr/>
            <p:nvPr/>
          </p:nvSpPr>
          <p:spPr>
            <a:xfrm>
              <a:off x="24220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Rectangle 18"/>
            <p:cNvSpPr/>
            <p:nvPr/>
          </p:nvSpPr>
          <p:spPr>
            <a:xfrm>
              <a:off x="331740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Rectangle 19"/>
            <p:cNvSpPr/>
            <p:nvPr/>
          </p:nvSpPr>
          <p:spPr>
            <a:xfrm>
              <a:off x="42508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Rectangle 20"/>
            <p:cNvSpPr/>
            <p:nvPr/>
          </p:nvSpPr>
          <p:spPr>
            <a:xfrm>
              <a:off x="51652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Rectangle 21"/>
            <p:cNvSpPr/>
            <p:nvPr/>
          </p:nvSpPr>
          <p:spPr>
            <a:xfrm>
              <a:off x="8117640" y="4108320"/>
              <a:ext cx="43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Rectangle 22"/>
            <p:cNvSpPr/>
            <p:nvPr/>
          </p:nvSpPr>
          <p:spPr>
            <a:xfrm>
              <a:off x="604152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Rectangle 23"/>
            <p:cNvSpPr/>
            <p:nvPr/>
          </p:nvSpPr>
          <p:spPr>
            <a:xfrm>
              <a:off x="6861960" y="4048200"/>
              <a:ext cx="817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. . .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1638360" y="4749840"/>
            <a:ext cx="6686640" cy="552240"/>
            <a:chOff x="1638360" y="4749840"/>
            <a:chExt cx="6686640" cy="552240"/>
          </a:xfrm>
        </p:grpSpPr>
        <p:sp>
          <p:nvSpPr>
            <p:cNvPr id="178" name="Line 27"/>
            <p:cNvSpPr/>
            <p:nvPr/>
          </p:nvSpPr>
          <p:spPr>
            <a:xfrm>
              <a:off x="1638360" y="4749840"/>
              <a:ext cx="0" cy="552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Line 28"/>
            <p:cNvSpPr/>
            <p:nvPr/>
          </p:nvSpPr>
          <p:spPr>
            <a:xfrm>
              <a:off x="8325000" y="4749840"/>
              <a:ext cx="0" cy="552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Line 29"/>
            <p:cNvSpPr/>
            <p:nvPr/>
          </p:nvSpPr>
          <p:spPr>
            <a:xfrm>
              <a:off x="1638360" y="5295960"/>
              <a:ext cx="6686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1" name="Rectangle 31"/>
          <p:cNvSpPr/>
          <p:nvPr/>
        </p:nvSpPr>
        <p:spPr>
          <a:xfrm>
            <a:off x="2818800" y="5481720"/>
            <a:ext cx="3577320" cy="57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nual Cash Flows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Rectangle 32"/>
          <p:cNvSpPr/>
          <p:nvPr/>
        </p:nvSpPr>
        <p:spPr>
          <a:xfrm>
            <a:off x="102240" y="2649600"/>
            <a:ext cx="127152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itia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utlay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1143000" y="1098720"/>
            <a:ext cx="777240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vage val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/- Tax effects of capital gain/lo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Recapture of net working capit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rmin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5854680" y="101520"/>
            <a:ext cx="32259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a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5" dur="5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83808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vage value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ook value =  depreciable asset - total amount deprecia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ook value = $168,000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apital gain = SV - BV =  $32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ax payment = 32,000 x .34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$10,88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5854680" y="101520"/>
            <a:ext cx="322596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a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5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1143000" y="1676520"/>
            <a:ext cx="7696080" cy="46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00,000       Salvage val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10,880)      Tax on capital g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25,000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Recapture of NW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14,120       Termin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854680" y="101520"/>
            <a:ext cx="3225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a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895120" y="304560"/>
            <a:ext cx="5327640" cy="113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roblem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1a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olution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19792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PV and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0) = -44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1 ), (2),  = 160,5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3 ) =  160,560 + 214,120 = 374,68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iscount rate = 12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RR = 22.1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PV = $93,044.   Accept the project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9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39152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oject Information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or the same project, suppose we can only get $100,000 for the old equipment after year 3, due to rapidly changing technolog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alculate the IRR and NPV for the projec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 it still acceptable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5917680" y="-360"/>
            <a:ext cx="3225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b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1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6" dur="500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1" dur="500"/>
                                        <p:tgtEl>
                                          <p:spTgt spid="5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838080" y="1218960"/>
            <a:ext cx="7848720" cy="45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vage val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/- Tax effects of capital gain/los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Recapture of net working capit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ermin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5854680" y="101520"/>
            <a:ext cx="32259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b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80880" y="590040"/>
            <a:ext cx="8229600" cy="590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vage value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ook value =  depreciable asset - total amount deprecia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ook value = $168,000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apital loss = SV - BV =  ($68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ax refund = 68,000 x .34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3,12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5854680" y="101520"/>
            <a:ext cx="3225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b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500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0" dur="500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2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837720" y="1371240"/>
            <a:ext cx="7620120" cy="462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00,000      Salvage val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3,120      Tax on capital g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25,000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Recapture of NW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48,120      Termin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Rectangle 1029"/>
          <p:cNvSpPr/>
          <p:nvPr/>
        </p:nvSpPr>
        <p:spPr>
          <a:xfrm>
            <a:off x="5854680" y="101520"/>
            <a:ext cx="322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1b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809520" y="228600"/>
            <a:ext cx="456588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Problem 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1b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Solution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46080" y="1828800"/>
            <a:ext cx="8197920" cy="478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PV and IRR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0) = -445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1 ), (2),  = 160,5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3 ) =  160,560 + 148,120 = 308,68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iscount rate = 12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RR = 17.3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PV = $46,067.   Accept the project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0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Automation Project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st of equipment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5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hipping &amp; installation will b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25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5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n net working capital required at setu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8-year project life, 5-year class li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implified straight line depreci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operating expenses ar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64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er y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ew operating expenses will b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40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er y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lready paid consultan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25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for analy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alvage value after year 8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4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st of capital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4%,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marginal tax rate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4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5917680" y="-360"/>
            <a:ext cx="3225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2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9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5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5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5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5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593064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Budgeting Step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257480"/>
            <a:ext cx="912492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Evaluate Cash Flow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326520" y="3664080"/>
            <a:ext cx="8230680" cy="1086120"/>
            <a:chOff x="326520" y="3664080"/>
            <a:chExt cx="8230680" cy="1086120"/>
          </a:xfrm>
        </p:grpSpPr>
        <p:grpSp>
          <p:nvGrpSpPr>
            <p:cNvPr id="186" name="Group 5"/>
            <p:cNvGrpSpPr/>
            <p:nvPr/>
          </p:nvGrpSpPr>
          <p:grpSpPr>
            <a:xfrm>
              <a:off x="514440" y="3664080"/>
              <a:ext cx="7810560" cy="495000"/>
              <a:chOff x="514440" y="3664080"/>
              <a:chExt cx="7810560" cy="495000"/>
            </a:xfrm>
          </p:grpSpPr>
          <p:sp>
            <p:nvSpPr>
              <p:cNvPr id="187" name="Line 6"/>
              <p:cNvSpPr/>
              <p:nvPr/>
            </p:nvSpPr>
            <p:spPr>
              <a:xfrm>
                <a:off x="514440" y="3911760"/>
                <a:ext cx="77914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" name="Line 7"/>
              <p:cNvSpPr/>
              <p:nvPr/>
            </p:nvSpPr>
            <p:spPr>
              <a:xfrm>
                <a:off x="8325000" y="3695760"/>
                <a:ext cx="0" cy="3999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Line 8"/>
              <p:cNvSpPr/>
              <p:nvPr/>
            </p:nvSpPr>
            <p:spPr>
              <a:xfrm>
                <a:off x="16956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514440" y="3720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Line 10"/>
              <p:cNvSpPr/>
              <p:nvPr/>
            </p:nvSpPr>
            <p:spPr>
              <a:xfrm>
                <a:off x="26100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Line 11"/>
              <p:cNvSpPr/>
              <p:nvPr/>
            </p:nvSpPr>
            <p:spPr>
              <a:xfrm>
                <a:off x="3524400" y="3664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" name="Line 12"/>
              <p:cNvSpPr/>
              <p:nvPr/>
            </p:nvSpPr>
            <p:spPr>
              <a:xfrm>
                <a:off x="44388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" name="Line 13"/>
              <p:cNvSpPr/>
              <p:nvPr/>
            </p:nvSpPr>
            <p:spPr>
              <a:xfrm>
                <a:off x="6267600" y="3683160"/>
                <a:ext cx="0" cy="4759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5" name="Line 14"/>
              <p:cNvSpPr/>
              <p:nvPr/>
            </p:nvSpPr>
            <p:spPr>
              <a:xfrm>
                <a:off x="71820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5353200" y="3683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7" name="Rectangle 16"/>
            <p:cNvSpPr/>
            <p:nvPr/>
          </p:nvSpPr>
          <p:spPr>
            <a:xfrm>
              <a:off x="32652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7"/>
            <p:cNvSpPr/>
            <p:nvPr/>
          </p:nvSpPr>
          <p:spPr>
            <a:xfrm>
              <a:off x="148860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8"/>
            <p:cNvSpPr/>
            <p:nvPr/>
          </p:nvSpPr>
          <p:spPr>
            <a:xfrm>
              <a:off x="24220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2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Rectangle 19"/>
            <p:cNvSpPr/>
            <p:nvPr/>
          </p:nvSpPr>
          <p:spPr>
            <a:xfrm>
              <a:off x="331740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3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Rectangle 20"/>
            <p:cNvSpPr/>
            <p:nvPr/>
          </p:nvSpPr>
          <p:spPr>
            <a:xfrm>
              <a:off x="42508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21"/>
            <p:cNvSpPr/>
            <p:nvPr/>
          </p:nvSpPr>
          <p:spPr>
            <a:xfrm>
              <a:off x="516528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5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22"/>
            <p:cNvSpPr/>
            <p:nvPr/>
          </p:nvSpPr>
          <p:spPr>
            <a:xfrm>
              <a:off x="8117640" y="4108320"/>
              <a:ext cx="439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23"/>
            <p:cNvSpPr/>
            <p:nvPr/>
          </p:nvSpPr>
          <p:spPr>
            <a:xfrm>
              <a:off x="6041520" y="410832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24"/>
            <p:cNvSpPr/>
            <p:nvPr/>
          </p:nvSpPr>
          <p:spPr>
            <a:xfrm>
              <a:off x="6861960" y="4048200"/>
              <a:ext cx="81756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. . .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Rectangle 25"/>
          <p:cNvSpPr/>
          <p:nvPr/>
        </p:nvSpPr>
        <p:spPr>
          <a:xfrm>
            <a:off x="7163280" y="2535120"/>
            <a:ext cx="191628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rmina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sh flow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7" name="Group 26"/>
          <p:cNvGrpSpPr/>
          <p:nvPr/>
        </p:nvGrpSpPr>
        <p:grpSpPr>
          <a:xfrm>
            <a:off x="1638360" y="4749840"/>
            <a:ext cx="6686640" cy="552240"/>
            <a:chOff x="1638360" y="4749840"/>
            <a:chExt cx="6686640" cy="552240"/>
          </a:xfrm>
        </p:grpSpPr>
        <p:sp>
          <p:nvSpPr>
            <p:cNvPr id="208" name="Line 27"/>
            <p:cNvSpPr/>
            <p:nvPr/>
          </p:nvSpPr>
          <p:spPr>
            <a:xfrm>
              <a:off x="1638360" y="4749840"/>
              <a:ext cx="0" cy="552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Line 28"/>
            <p:cNvSpPr/>
            <p:nvPr/>
          </p:nvSpPr>
          <p:spPr>
            <a:xfrm>
              <a:off x="8325000" y="4749840"/>
              <a:ext cx="0" cy="552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Line 29"/>
            <p:cNvSpPr/>
            <p:nvPr/>
          </p:nvSpPr>
          <p:spPr>
            <a:xfrm>
              <a:off x="1638360" y="5295960"/>
              <a:ext cx="66866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1" name="Rectangle 30"/>
          <p:cNvSpPr/>
          <p:nvPr/>
        </p:nvSpPr>
        <p:spPr>
          <a:xfrm>
            <a:off x="2818800" y="5481720"/>
            <a:ext cx="3577320" cy="579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nnual Cash Flows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Rectangle 31"/>
          <p:cNvSpPr/>
          <p:nvPr/>
        </p:nvSpPr>
        <p:spPr>
          <a:xfrm>
            <a:off x="102240" y="2649600"/>
            <a:ext cx="1271520" cy="1067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itia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utlay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4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16480" y="367920"/>
            <a:ext cx="2578320" cy="69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blem 2  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43000" y="1098720"/>
            <a:ext cx="769608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550,000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st of new mach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    (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25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hipping &amp; install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575,000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ble ass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(   15,000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NWC invest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590,000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t Initial Outla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5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837720" y="946080"/>
            <a:ext cx="7239240" cy="591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40,000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st decrea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(115,000)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tion increa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25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(42,500)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axes (34%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82,5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A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115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97,500   =  Annual Cash Flow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762120" y="380520"/>
            <a:ext cx="3644640" cy="6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1" name="Rectangle 1030"/>
          <p:cNvSpPr/>
          <p:nvPr/>
        </p:nvSpPr>
        <p:spPr>
          <a:xfrm>
            <a:off x="6216480" y="158760"/>
            <a:ext cx="25783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blem 2 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3" dur="5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3" dur="500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8" dur="500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837720" y="946080"/>
            <a:ext cx="7239240" cy="591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40,000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st decrea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(          0)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tion increa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40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B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(81,600)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axes (34%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58,4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A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     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58,400   =  Annual Cash Flow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685440" y="533520"/>
            <a:ext cx="3645000" cy="65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or Years 6 - 8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6" name="Rectangle 1030"/>
          <p:cNvSpPr/>
          <p:nvPr/>
        </p:nvSpPr>
        <p:spPr>
          <a:xfrm>
            <a:off x="6235560" y="139680"/>
            <a:ext cx="25783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blem 2 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0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nodeType="clickEffect" fill="hold">
                      <p:stCondLst>
                        <p:cond delay="indefinite"/>
                      </p:stCondLst>
                      <p:childTnLst>
                        <p:par>
                          <p:cTn id="1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5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0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5" dur="5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8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838080" y="1066320"/>
            <a:ext cx="7315200" cy="462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40,000       Salvage val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13,600)      Tax on capital g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15,000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Recapture of NW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1,400       Termin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0" name="Rectangle 1029"/>
          <p:cNvSpPr/>
          <p:nvPr/>
        </p:nvSpPr>
        <p:spPr>
          <a:xfrm>
            <a:off x="6197760" y="158760"/>
            <a:ext cx="25779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blem 2  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nodeType="clickEffect" fill="hold">
                      <p:stCondLst>
                        <p:cond delay="indefinite"/>
                      </p:stCondLst>
                      <p:childTnLst>
                        <p:par>
                          <p:cTn id="1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2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2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64960" y="6480"/>
            <a:ext cx="6902280" cy="93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oblem 2 Solution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861320" cy="546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PV and IRR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0) = -59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1 - 5) = 197,5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6 - 7) = 158,4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10) = 158,400 + 41,400 = 199,8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iscount rate = 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RR = 28.13%       NPV = $293,54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e would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ccep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the project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nodeType="clickEffect" fill="hold">
                      <p:stCondLst>
                        <p:cond delay="indefinite"/>
                      </p:stCondLst>
                      <p:childTnLst>
                        <p:par>
                          <p:cTn id="1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9" dur="5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4" dur="5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6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7239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placement Projec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Old Asset  (5 years old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st of equipment 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1,125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10-year project life, 10-year class li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implified straight line depreci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urrent salvage value i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4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st of capital 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%,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marginal tax rate 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5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5917680" y="-360"/>
            <a:ext cx="3225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3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70" dur="indefinite" restart="never" nodeType="tmRoot">
          <p:childTnLst>
            <p:seq>
              <p:cTn id="1371" dur="indefinite" nodeType="mainSeq">
                <p:childTnLst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6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6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6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nodeType="clickEffect" fill="hold">
                      <p:stCondLst>
                        <p:cond delay="indefinite"/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0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placement Project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New Asse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st of equipment 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1,7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hipping &amp; installation will b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56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68,000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nvestment in net working capi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5-year project life, 5-year class lif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implified straight line depreci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ill increase sales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285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er ye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perating expenses will fall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100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er y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lready pai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15,000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for training progr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alvage value after year 5 i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50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st of capital 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%,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marginal tax rate =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4%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5917680" y="-360"/>
            <a:ext cx="3225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blem 3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07" dur="indefinite" restart="never" nodeType="tmRoot">
          <p:childTnLst>
            <p:seq>
              <p:cTn id="1408" dur="indefinite" nodeType="mainSeq">
                <p:childTnLst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3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500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3" dur="500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8" dur="500"/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5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5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30040" y="6480"/>
            <a:ext cx="669276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roblem 3:  Sell the Old Asset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38080" y="1002960"/>
            <a:ext cx="8229600" cy="585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alvage value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ook value =  depreciable asset - total amount depreciat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ook value = $1,125,000 - $562,5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= $562,500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apital gain = SV - BV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= 400,000 - 562,500 =  ($162,5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ax refund = 162,500 x .35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56,87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0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702040" y="196920"/>
            <a:ext cx="3282840" cy="73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blem 3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15364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nitial Outlay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1,750,000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st of new mach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(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  56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hipping &amp; installati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1,806,000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ble ass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(    68,000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NWC investmen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+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 456,875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fter-tax proceeds (sold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old machine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1,417,125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t Initial Outla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nodeType="clickEffect" fill="hold">
                      <p:stCondLst>
                        <p:cond delay="indefinite"/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2" dur="5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nodeType="clickEffect" fill="hold">
                      <p:stCondLst>
                        <p:cond delay="indefinite"/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nodeType="clickEffect" fill="hold">
                      <p:stCondLst>
                        <p:cond delay="indefinite"/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2" dur="5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7" dur="500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nodeType="clickEffect" fill="hold">
                      <p:stCondLst>
                        <p:cond delay="indefinite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500"/>
                                        <p:tgtEl>
                                          <p:spTgt spid="6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-360" y="1904760"/>
            <a:ext cx="8839080" cy="459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385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creased sales &amp; cost saving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(248,700)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xtra depreciation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36,3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B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(47,705)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axes (35%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88,595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A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248,7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epreciation revers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37,295   =   Differential Cash Flow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837720" y="837720"/>
            <a:ext cx="3645000" cy="6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For Years 1 - 5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5702400" y="196920"/>
            <a:ext cx="3282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blem 3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500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0" nodeType="clickEffect" fill="hold">
                      <p:stCondLst>
                        <p:cond delay="indefinite"/>
                      </p:stCondLst>
                      <p:childTnLst>
                        <p:par>
                          <p:cTn id="1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6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valuate the risk of the project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e’ll get to this in the next chap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or now, we’ll assume that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sk of the projec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s the same as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isk of the overall fi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f we do this, we can use the firm’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st of capital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as the discount rate for capital investment projec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447920" y="304920"/>
            <a:ext cx="593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apital Budgeting Steps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8080" y="1098720"/>
            <a:ext cx="7391520" cy="575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rminal Cash Flow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500,000       Salvage valu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175,000)      Tax on capital g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68,000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Recapture of NW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93,000       Terminal Cash Flow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Rectangle 5"/>
          <p:cNvSpPr/>
          <p:nvPr/>
        </p:nvSpPr>
        <p:spPr>
          <a:xfrm>
            <a:off x="5702400" y="196920"/>
            <a:ext cx="32828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roblem 3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1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6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200400" y="202680"/>
            <a:ext cx="5137200" cy="9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oblem 3 Solution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2320" y="1371240"/>
            <a:ext cx="786132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NPV and IRR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0) = -1,417,12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1 - 4) = 337,29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F(5) = 337,295 + 393,000 = 730,29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iscount rate = 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PV = (55,052.07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RR = 12.55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e woul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ccept the project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nodeType="clickEffect" fill="hold">
                      <p:stCondLst>
                        <p:cond delay="indefinite"/>
                      </p:stCondLst>
                      <p:childTnLst>
                        <p:par>
                          <p:cTn id="1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8" dur="500"/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nodeType="clickEffect" fill="hold">
                      <p:stCondLst>
                        <p:cond delay="indefinite"/>
                      </p:stCondLst>
                      <p:childTnLst>
                        <p:par>
                          <p:cTn id="1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3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nodeType="clickEffect" fill="hold">
                      <p:stCondLst>
                        <p:cond delay="indefinite"/>
                      </p:stCondLst>
                      <p:childTnLst>
                        <p:par>
                          <p:cTn id="1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nodeType="clickEffect" fill="hold">
                      <p:stCondLst>
                        <p:cond delay="indefinite"/>
                      </p:stCondLst>
                      <p:childTnLst>
                        <p:par>
                          <p:cTn id="1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8" dur="500"/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nodeType="clickEffect" fill="hold">
                      <p:stCondLst>
                        <p:cond delay="indefinite"/>
                      </p:stCondLst>
                      <p:childTnLst>
                        <p:par>
                          <p:cTn id="1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6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8" dur="500"/>
                                        <p:tgtEl>
                                          <p:spTgt spid="6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24T11:20:08Z</dcterms:created>
  <dc:creator>Anthony K. Byrd, Associate Professor of Finance</dc:creator>
  <dc:description/>
  <cp:keywords>Capital Budgeting Cash Flows</cp:keywords>
  <dc:language>en-US</dc:language>
  <cp:lastModifiedBy>keran sohail</cp:lastModifiedBy>
  <dcterms:modified xsi:type="dcterms:W3CDTF">2020-04-02T06:32:38Z</dcterms:modified>
  <cp:revision>28</cp:revision>
  <dc:subject>Ch. 10:  Cash Flows &amp; other Topics in Capital Budgeting</dc:subject>
  <dc:title>Financial Management</dc:title>
</cp:coreProperties>
</file>